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AF5-A088-43B7-8909-E9A83F8D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766E-EF08-4227-AA8A-5097993E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71F-044D-4F7F-8154-7C524D58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B98-EA33-4446-BAE3-B20B0808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4FFC-465B-45D2-A1E3-A3E554F4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1193-25A3-423F-97BB-60E17AFC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6F38-6027-4ED3-BD69-A8E0113C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2A7-28F1-4211-9AC0-8910C4E8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BBC-B8D9-421D-808A-2A98A09F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371-0067-4191-A620-444F0C0E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0AF-3F77-4C56-A997-1A2DD1C4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9F6-0C99-4AD7-9143-BAE8D553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75EE-42FD-4D8E-986D-AD7A61FAE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473440" cy="3525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340000" y="3587760"/>
            <a:ext cx="41050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4:54:12Z</dcterms:created>
  <dc:creator>Gregor</dc:creator>
  <dc:description/>
  <dc:language>en-US</dc:language>
  <cp:lastModifiedBy>Gregor</cp:lastModifiedBy>
  <dcterms:modified xsi:type="dcterms:W3CDTF">2004-10-11T17:34:36Z</dcterms:modified>
  <cp:revision>2</cp:revision>
  <dc:subject/>
  <dc:title>1. dia</dc:title>
</cp:coreProperties>
</file>